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CBD-5344-4756-A9CE-3F4F0AF4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444-5C81-4B53-8CDD-862DF0AF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652-A551-4654-ACFA-0D77E512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3BB-CC73-49EF-8D87-D3A54CDE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9307-F6E7-413E-B106-0186DDF1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CFCB-7520-4084-A3B1-52FD52FA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AEFD-0945-48C8-996A-5E81039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4F68-DB16-4DE5-B083-2AA6D374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5E8A-C227-445F-B00C-06B210F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A4FF-CF0A-4037-B532-E48BACB5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59E5-2655-4896-9804-BBC77ACD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094-FDE9-4B45-9404-A2F40A3F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06A4-ACEC-4525-B57F-37A62596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EEA4-0652-4165-8158-A399F991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CA5A-9B1E-40C3-8F57-FC5EC232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9365-56E5-473B-820D-3160EB10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2322-82C1-4DC7-AD20-D372277B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9AB-59D1-4CD8-AC79-B4206F6D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D82-2EC9-42CE-90E3-D274B6F3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3D1-562C-401E-AD8B-13CBEAE0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D47-CC5B-4050-96D4-584A0A03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A65-A12F-4DF2-BFFF-1D065D01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DAC-3399-47D4-A46D-CE0D879C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885-108B-4EE5-B53A-822817A0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E3B2-3FAD-4D59-8919-5774973B4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13336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7ED-69F0-4545-B33D-585E4C46D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2133360"/>
            <a:ext cx="6705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73"/>
                </a:solidFill>
                <a:latin typeface="Arial Black"/>
              </a:rPr>
              <a:t>Reachability Analysis </a:t>
            </a:r>
            <a:br>
              <a:rPr sz="3200"/>
            </a:br>
            <a:r>
              <a:rPr b="0" lang="en-US" sz="3200" spc="-1" strike="noStrike">
                <a:solidFill>
                  <a:srgbClr val="838373"/>
                </a:solidFill>
                <a:latin typeface="Arial Black"/>
              </a:rPr>
              <a:t>of Sampling Based Planners</a:t>
            </a:r>
            <a:endParaRPr b="0" lang="en-US" sz="3200" spc="-1" strike="noStrike">
              <a:solidFill>
                <a:srgbClr val="838373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53080" y="5867280"/>
            <a:ext cx="1828800" cy="489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90920" y="388620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and Geraerts and Mark Over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RA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371760" y="470052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3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Neighbor selecting strategy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  1/3</a:t>
            </a:r>
            <a:endParaRPr b="0" lang="en-US" sz="2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for selecting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al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o short, not to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al number of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o small, not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Neighbor selecting strategy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  2/3</a:t>
            </a:r>
            <a:endParaRPr b="0" lang="en-US" sz="2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for selecting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al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858000" y="2666880"/>
            <a:ext cx="18288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990720" y="3124080"/>
            <a:ext cx="518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Neighbor selecting strategy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  3/3</a:t>
            </a:r>
            <a:endParaRPr b="0" lang="en-US" sz="2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for selecting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al number of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858000" y="2666880"/>
            <a:ext cx="18288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4191120" cy="1979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1066680" y="2666880"/>
            <a:ext cx="4191120" cy="1982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268960" y="2711520"/>
            <a:ext cx="990720" cy="40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Local planners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1/4</a:t>
            </a:r>
            <a:endParaRPr b="0" lang="en-US" sz="2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ng nodes can b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create more powerful local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field local pl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8 (26) directions on unit 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ose that bring robot closer to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when all possible directions f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Local planners – 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2/4</a:t>
            </a:r>
            <a:br>
              <a:rPr sz="1800"/>
            </a:b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reachability regions</a:t>
            </a:r>
            <a:endParaRPr b="0" lang="en-US" sz="36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-line 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field 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362320" y="2286000"/>
            <a:ext cx="4800600" cy="4267080"/>
            <a:chOff x="2362320" y="2286000"/>
            <a:chExt cx="4800600" cy="4267080"/>
          </a:xfrm>
        </p:grpSpPr>
        <p:grpSp>
          <p:nvGrpSpPr>
            <p:cNvPr id="263" name=""/>
            <p:cNvGrpSpPr/>
            <p:nvPr/>
          </p:nvGrpSpPr>
          <p:grpSpPr>
            <a:xfrm>
              <a:off x="2362320" y="4495680"/>
              <a:ext cx="4800600" cy="2057400"/>
              <a:chOff x="2362320" y="4495680"/>
              <a:chExt cx="4800600" cy="2057400"/>
            </a:xfrm>
          </p:grpSpPr>
          <p:pic>
            <p:nvPicPr>
              <p:cNvPr id="2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4495680"/>
                <a:ext cx="205740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62320" y="4495680"/>
                <a:ext cx="2057400" cy="205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2362320" y="2286000"/>
              <a:ext cx="4800600" cy="2057400"/>
              <a:chOff x="2362320" y="2286000"/>
              <a:chExt cx="4800600" cy="2057400"/>
            </a:xfrm>
          </p:grpSpPr>
          <p:pic>
            <p:nvPicPr>
              <p:cNvPr id="2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362320" y="2286000"/>
                <a:ext cx="2057400" cy="20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2286000"/>
                <a:ext cx="2057400" cy="20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Local planners – 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3/4</a:t>
            </a:r>
            <a:br>
              <a:rPr sz="1800"/>
            </a:b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reachability landscapes</a:t>
            </a:r>
            <a:endParaRPr b="0" lang="en-US" sz="36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-line 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field 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Cortona1"/>
          <p:cNvGraphicFramePr/>
          <p:nvPr/>
        </p:nvGraphicFramePr>
        <p:xfrm>
          <a:off x="914400" y="2362320"/>
          <a:ext cx="3573360" cy="35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Cortona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362320"/>
                    <a:ext cx="357336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Cortona2"/>
          <p:cNvGraphicFramePr/>
          <p:nvPr/>
        </p:nvGraphicFramePr>
        <p:xfrm>
          <a:off x="4938840" y="2347920"/>
          <a:ext cx="3600360" cy="36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5" name="Cortona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8840" y="2347920"/>
                    <a:ext cx="36003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Local planners –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4/4</a:t>
            </a: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experiments</a:t>
            </a:r>
            <a:endParaRPr b="0" lang="en-US" sz="3600" spc="-1" strike="noStrike">
              <a:solidFill>
                <a:srgbClr val="838373"/>
              </a:solidFill>
              <a:latin typeface="Arial Black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80880" y="3387600"/>
          <a:ext cx="2629080" cy="3268800"/>
        </p:xfrm>
        <a:graphic>
          <a:graphicData uri="http://schemas.openxmlformats.org/drawingml/2006/table">
            <a:tbl>
              <a:tblPr/>
              <a:tblGrid>
                <a:gridCol w="1295640"/>
                <a:gridCol w="736560"/>
                <a:gridCol w="596880"/>
              </a:tblGrid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reg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213000" y="3417840"/>
          <a:ext cx="2730600" cy="3241800"/>
        </p:xfrm>
        <a:graphic>
          <a:graphicData uri="http://schemas.openxmlformats.org/drawingml/2006/table">
            <a:tbl>
              <a:tblPr/>
              <a:tblGrid>
                <a:gridCol w="1498680"/>
                <a:gridCol w="622440"/>
                <a:gridCol w="60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 re.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156360" y="3411360"/>
          <a:ext cx="2666880" cy="3241800"/>
        </p:xfrm>
        <a:graphic>
          <a:graphicData uri="http://schemas.openxmlformats.org/drawingml/2006/table">
            <a:tbl>
              <a:tblPr/>
              <a:tblGrid>
                <a:gridCol w="1359000"/>
                <a:gridCol w="736560"/>
                <a:gridCol w="571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i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-90000" y="1600200"/>
            <a:ext cx="9041040" cy="1601640"/>
            <a:chOff x="-90000" y="1600200"/>
            <a:chExt cx="9041040" cy="160164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533520" y="1600200"/>
              <a:ext cx="1295280" cy="1295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2971800" y="1600200"/>
              <a:ext cx="1295280" cy="1295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5254560" y="1600200"/>
              <a:ext cx="1298520" cy="1295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4" name="" descr=""/>
            <p:cNvPicPr/>
            <p:nvPr/>
          </p:nvPicPr>
          <p:blipFill>
            <a:blip r:embed="rId5"/>
            <a:stretch/>
          </p:blipFill>
          <p:spPr>
            <a:xfrm>
              <a:off x="7540560" y="1600200"/>
              <a:ext cx="1298520" cy="1298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5" name=""/>
            <p:cNvSpPr/>
            <p:nvPr/>
          </p:nvSpPr>
          <p:spPr>
            <a:xfrm>
              <a:off x="-90000" y="28335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u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64840" y="283356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rr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50840" y="2833560"/>
              <a:ext cx="167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0720" y="2819520"/>
              <a:ext cx="20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r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Conclusions</a:t>
            </a: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M is successful in handling complex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abilit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is not the main problem, but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ity problem can be decreas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ybrid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powerful local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Future work</a:t>
            </a: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of potential field local pl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workspace information as a guide to more clever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ww.cs.uu.nl/~r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5410080" cy="2909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Probabilistic Roadmap Method</a:t>
            </a:r>
            <a:endParaRPr b="0" lang="en-US" sz="36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2840" y="231444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bidde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2819520"/>
            <a:ext cx="3694320" cy="2665440"/>
          </a:xfrm>
          <a:custGeom>
            <a:avLst/>
            <a:gdLst/>
            <a:ahLst/>
            <a:rect l="l" t="t" r="r" b="b"/>
            <a:pathLst>
              <a:path w="2310" h="1679">
                <a:moveTo>
                  <a:pt x="45" y="915"/>
                </a:moveTo>
                <a:cubicBezTo>
                  <a:pt x="75" y="856"/>
                  <a:pt x="99" y="798"/>
                  <a:pt x="126" y="737"/>
                </a:cubicBezTo>
                <a:cubicBezTo>
                  <a:pt x="135" y="673"/>
                  <a:pt x="151" y="610"/>
                  <a:pt x="174" y="550"/>
                </a:cubicBezTo>
                <a:cubicBezTo>
                  <a:pt x="184" y="495"/>
                  <a:pt x="192" y="453"/>
                  <a:pt x="199" y="396"/>
                </a:cubicBezTo>
                <a:cubicBezTo>
                  <a:pt x="204" y="350"/>
                  <a:pt x="200" y="317"/>
                  <a:pt x="239" y="291"/>
                </a:cubicBezTo>
                <a:cubicBezTo>
                  <a:pt x="260" y="260"/>
                  <a:pt x="273" y="257"/>
                  <a:pt x="304" y="242"/>
                </a:cubicBezTo>
                <a:cubicBezTo>
                  <a:pt x="313" y="238"/>
                  <a:pt x="329" y="226"/>
                  <a:pt x="329" y="226"/>
                </a:cubicBezTo>
                <a:cubicBezTo>
                  <a:pt x="378" y="218"/>
                  <a:pt x="410" y="195"/>
                  <a:pt x="458" y="185"/>
                </a:cubicBezTo>
                <a:cubicBezTo>
                  <a:pt x="504" y="158"/>
                  <a:pt x="536" y="130"/>
                  <a:pt x="588" y="120"/>
                </a:cubicBezTo>
                <a:cubicBezTo>
                  <a:pt x="657" y="86"/>
                  <a:pt x="725" y="66"/>
                  <a:pt x="799" y="47"/>
                </a:cubicBezTo>
                <a:cubicBezTo>
                  <a:pt x="1022" y="55"/>
                  <a:pt x="969" y="0"/>
                  <a:pt x="1026" y="64"/>
                </a:cubicBezTo>
                <a:cubicBezTo>
                  <a:pt x="1040" y="72"/>
                  <a:pt x="1055" y="78"/>
                  <a:pt x="1067" y="88"/>
                </a:cubicBezTo>
                <a:cubicBezTo>
                  <a:pt x="1088" y="105"/>
                  <a:pt x="1124" y="145"/>
                  <a:pt x="1124" y="145"/>
                </a:cubicBezTo>
                <a:cubicBezTo>
                  <a:pt x="1134" y="174"/>
                  <a:pt x="1147" y="196"/>
                  <a:pt x="1156" y="226"/>
                </a:cubicBezTo>
                <a:cubicBezTo>
                  <a:pt x="1161" y="242"/>
                  <a:pt x="1172" y="274"/>
                  <a:pt x="1172" y="274"/>
                </a:cubicBezTo>
                <a:cubicBezTo>
                  <a:pt x="1189" y="380"/>
                  <a:pt x="1251" y="478"/>
                  <a:pt x="1310" y="566"/>
                </a:cubicBezTo>
                <a:cubicBezTo>
                  <a:pt x="1323" y="607"/>
                  <a:pt x="1368" y="633"/>
                  <a:pt x="1408" y="648"/>
                </a:cubicBezTo>
                <a:cubicBezTo>
                  <a:pt x="1424" y="654"/>
                  <a:pt x="1456" y="664"/>
                  <a:pt x="1456" y="664"/>
                </a:cubicBezTo>
                <a:cubicBezTo>
                  <a:pt x="1491" y="659"/>
                  <a:pt x="1528" y="659"/>
                  <a:pt x="1562" y="648"/>
                </a:cubicBezTo>
                <a:cubicBezTo>
                  <a:pt x="1598" y="636"/>
                  <a:pt x="1625" y="608"/>
                  <a:pt x="1659" y="591"/>
                </a:cubicBezTo>
                <a:cubicBezTo>
                  <a:pt x="1688" y="546"/>
                  <a:pt x="1735" y="540"/>
                  <a:pt x="1773" y="502"/>
                </a:cubicBezTo>
                <a:cubicBezTo>
                  <a:pt x="1799" y="475"/>
                  <a:pt x="1829" y="448"/>
                  <a:pt x="1854" y="420"/>
                </a:cubicBezTo>
                <a:cubicBezTo>
                  <a:pt x="1970" y="410"/>
                  <a:pt x="2012" y="405"/>
                  <a:pt x="2138" y="412"/>
                </a:cubicBezTo>
                <a:cubicBezTo>
                  <a:pt x="2180" y="457"/>
                  <a:pt x="2194" y="513"/>
                  <a:pt x="2243" y="550"/>
                </a:cubicBezTo>
                <a:cubicBezTo>
                  <a:pt x="2252" y="586"/>
                  <a:pt x="2264" y="593"/>
                  <a:pt x="2284" y="623"/>
                </a:cubicBezTo>
                <a:cubicBezTo>
                  <a:pt x="2296" y="660"/>
                  <a:pt x="2299" y="699"/>
                  <a:pt x="2308" y="737"/>
                </a:cubicBezTo>
                <a:cubicBezTo>
                  <a:pt x="2305" y="759"/>
                  <a:pt x="2310" y="783"/>
                  <a:pt x="2300" y="802"/>
                </a:cubicBezTo>
                <a:cubicBezTo>
                  <a:pt x="2291" y="818"/>
                  <a:pt x="2252" y="800"/>
                  <a:pt x="2235" y="834"/>
                </a:cubicBezTo>
                <a:cubicBezTo>
                  <a:pt x="2224" y="868"/>
                  <a:pt x="2219" y="899"/>
                  <a:pt x="2203" y="932"/>
                </a:cubicBezTo>
                <a:cubicBezTo>
                  <a:pt x="2197" y="995"/>
                  <a:pt x="2196" y="1081"/>
                  <a:pt x="2170" y="1142"/>
                </a:cubicBezTo>
                <a:cubicBezTo>
                  <a:pt x="2114" y="1275"/>
                  <a:pt x="1891" y="1297"/>
                  <a:pt x="1773" y="1297"/>
                </a:cubicBezTo>
                <a:cubicBezTo>
                  <a:pt x="1705" y="1286"/>
                  <a:pt x="1735" y="1280"/>
                  <a:pt x="1683" y="1264"/>
                </a:cubicBezTo>
                <a:cubicBezTo>
                  <a:pt x="1636" y="1233"/>
                  <a:pt x="1605" y="1209"/>
                  <a:pt x="1554" y="1183"/>
                </a:cubicBezTo>
                <a:cubicBezTo>
                  <a:pt x="1539" y="1175"/>
                  <a:pt x="1528" y="1159"/>
                  <a:pt x="1513" y="1151"/>
                </a:cubicBezTo>
                <a:cubicBezTo>
                  <a:pt x="1490" y="1139"/>
                  <a:pt x="1440" y="1126"/>
                  <a:pt x="1440" y="1126"/>
                </a:cubicBezTo>
                <a:cubicBezTo>
                  <a:pt x="1405" y="1129"/>
                  <a:pt x="1369" y="1127"/>
                  <a:pt x="1335" y="1134"/>
                </a:cubicBezTo>
                <a:cubicBezTo>
                  <a:pt x="1297" y="1141"/>
                  <a:pt x="1243" y="1215"/>
                  <a:pt x="1221" y="1248"/>
                </a:cubicBezTo>
                <a:cubicBezTo>
                  <a:pt x="1218" y="1259"/>
                  <a:pt x="1217" y="1270"/>
                  <a:pt x="1213" y="1280"/>
                </a:cubicBezTo>
                <a:cubicBezTo>
                  <a:pt x="1209" y="1289"/>
                  <a:pt x="1200" y="1296"/>
                  <a:pt x="1197" y="1305"/>
                </a:cubicBezTo>
                <a:cubicBezTo>
                  <a:pt x="1175" y="1366"/>
                  <a:pt x="1206" y="1328"/>
                  <a:pt x="1172" y="1362"/>
                </a:cubicBezTo>
                <a:cubicBezTo>
                  <a:pt x="1152" y="1421"/>
                  <a:pt x="1181" y="1348"/>
                  <a:pt x="1140" y="1410"/>
                </a:cubicBezTo>
                <a:cubicBezTo>
                  <a:pt x="1135" y="1417"/>
                  <a:pt x="1138" y="1429"/>
                  <a:pt x="1132" y="1435"/>
                </a:cubicBezTo>
                <a:cubicBezTo>
                  <a:pt x="1126" y="1441"/>
                  <a:pt x="1115" y="1440"/>
                  <a:pt x="1107" y="1443"/>
                </a:cubicBezTo>
                <a:cubicBezTo>
                  <a:pt x="1071" y="1479"/>
                  <a:pt x="1038" y="1517"/>
                  <a:pt x="1018" y="1564"/>
                </a:cubicBezTo>
                <a:cubicBezTo>
                  <a:pt x="1006" y="1592"/>
                  <a:pt x="1011" y="1615"/>
                  <a:pt x="978" y="1637"/>
                </a:cubicBezTo>
                <a:cubicBezTo>
                  <a:pt x="945" y="1660"/>
                  <a:pt x="910" y="1669"/>
                  <a:pt x="872" y="1678"/>
                </a:cubicBezTo>
                <a:cubicBezTo>
                  <a:pt x="813" y="1675"/>
                  <a:pt x="753" y="1679"/>
                  <a:pt x="694" y="1670"/>
                </a:cubicBezTo>
                <a:cubicBezTo>
                  <a:pt x="680" y="1668"/>
                  <a:pt x="672" y="1653"/>
                  <a:pt x="661" y="1645"/>
                </a:cubicBezTo>
                <a:cubicBezTo>
                  <a:pt x="627" y="1621"/>
                  <a:pt x="598" y="1596"/>
                  <a:pt x="564" y="1572"/>
                </a:cubicBezTo>
                <a:cubicBezTo>
                  <a:pt x="493" y="1465"/>
                  <a:pt x="507" y="1339"/>
                  <a:pt x="507" y="1216"/>
                </a:cubicBezTo>
                <a:cubicBezTo>
                  <a:pt x="464" y="1129"/>
                  <a:pt x="438" y="1039"/>
                  <a:pt x="337" y="1005"/>
                </a:cubicBezTo>
                <a:cubicBezTo>
                  <a:pt x="210" y="1012"/>
                  <a:pt x="167" y="1021"/>
                  <a:pt x="45" y="1013"/>
                </a:cubicBezTo>
                <a:cubicBezTo>
                  <a:pt x="39" y="1007"/>
                  <a:pt x="34" y="1001"/>
                  <a:pt x="28" y="996"/>
                </a:cubicBezTo>
                <a:cubicBezTo>
                  <a:pt x="21" y="990"/>
                  <a:pt x="6" y="989"/>
                  <a:pt x="4" y="980"/>
                </a:cubicBezTo>
                <a:cubicBezTo>
                  <a:pt x="0" y="961"/>
                  <a:pt x="2" y="939"/>
                  <a:pt x="12" y="923"/>
                </a:cubicBezTo>
                <a:cubicBezTo>
                  <a:pt x="18" y="913"/>
                  <a:pt x="45" y="915"/>
                  <a:pt x="45" y="915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9560" y="3884760"/>
            <a:ext cx="762120" cy="304560"/>
          </a:xfrm>
          <a:prstGeom prst="parallelogram">
            <a:avLst>
              <a:gd name="adj" fmla="val 625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55880" y="4646520"/>
            <a:ext cx="45720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51160" y="4037040"/>
            <a:ext cx="6858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70080" y="3502800"/>
            <a:ext cx="45720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26680" y="20494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e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162160"/>
            <a:ext cx="152280" cy="152280"/>
          </a:xfrm>
          <a:prstGeom prst="rect">
            <a:avLst/>
          </a:prstGeom>
          <a:gradFill rotWithShape="0">
            <a:gsLst>
              <a:gs pos="0">
                <a:srgbClr val="e2e2e2"/>
              </a:gs>
              <a:gs pos="100000">
                <a:srgbClr val="686b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427120"/>
            <a:ext cx="1522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695680"/>
            <a:ext cx="15228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23800" y="25797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41640" y="3505320"/>
            <a:ext cx="1780920" cy="1716120"/>
          </a:xfrm>
          <a:prstGeom prst="ellipse">
            <a:avLst/>
          </a:prstGeom>
          <a:solidFill>
            <a:srgbClr val="1ca30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8840" y="41148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13240" y="3657600"/>
            <a:ext cx="1780920" cy="1716120"/>
          </a:xfrm>
          <a:prstGeom prst="ellipse">
            <a:avLst/>
          </a:prstGeom>
          <a:solidFill>
            <a:srgbClr val="1ca30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51160" y="3048120"/>
            <a:ext cx="1781280" cy="1716120"/>
          </a:xfrm>
          <a:prstGeom prst="ellipse">
            <a:avLst/>
          </a:prstGeom>
          <a:solidFill>
            <a:srgbClr val="1ca30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65560" y="3884760"/>
            <a:ext cx="15264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300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98960" y="28386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liding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078080" y="3657600"/>
            <a:ext cx="1063440" cy="992160"/>
            <a:chOff x="4078080" y="3657600"/>
            <a:chExt cx="1063440" cy="992160"/>
          </a:xfrm>
        </p:grpSpPr>
        <p:sp>
          <p:nvSpPr>
            <p:cNvPr id="107" name=""/>
            <p:cNvSpPr/>
            <p:nvPr/>
          </p:nvSpPr>
          <p:spPr>
            <a:xfrm>
              <a:off x="4775760" y="365760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456080" y="3962160"/>
              <a:ext cx="685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8080" y="4281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932200" y="3236760"/>
            <a:ext cx="1780920" cy="1716120"/>
          </a:xfrm>
          <a:prstGeom prst="ellipse">
            <a:avLst/>
          </a:prstGeom>
          <a:solidFill>
            <a:srgbClr val="1ca30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56800" y="37479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084480" y="411336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00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24880" y="28386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1338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08160" y="4341960"/>
            <a:ext cx="15264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78440" y="4343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6600" y="4113360"/>
            <a:ext cx="60948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70280" y="4037040"/>
            <a:ext cx="15228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50440" y="41911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79760" y="4417920"/>
            <a:ext cx="152640" cy="15264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6120" y="36576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22360" y="3274920"/>
            <a:ext cx="2895480" cy="2057400"/>
            <a:chOff x="2322360" y="3274920"/>
            <a:chExt cx="2895480" cy="2057400"/>
          </a:xfrm>
        </p:grpSpPr>
        <p:sp>
          <p:nvSpPr>
            <p:cNvPr id="124" name=""/>
            <p:cNvSpPr/>
            <p:nvPr/>
          </p:nvSpPr>
          <p:spPr>
            <a:xfrm flipH="1">
              <a:off x="2398680" y="335124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98680" y="42656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627280" y="44179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7280" y="47988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084480" y="47224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84480" y="41126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6080" y="44942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240" y="4113000"/>
              <a:ext cx="609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836960" y="39603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27280" y="327492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60640" y="4570200"/>
              <a:ext cx="152640" cy="15264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2360" y="418932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08160" y="4341600"/>
              <a:ext cx="152280" cy="15264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8160" y="518004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70280" y="403704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41680" y="464652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79760" y="441792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5560" y="3884400"/>
              <a:ext cx="152280" cy="15264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89120" y="472284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73"/>
                </a:solidFill>
                <a:latin typeface="Arial Black"/>
              </a:rPr>
              <a:t>Probabilistic Roadmap Method</a:t>
            </a:r>
            <a:endParaRPr b="0" lang="en-US" sz="36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8160" y="231444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bidde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2820960"/>
            <a:ext cx="3694320" cy="2665440"/>
          </a:xfrm>
          <a:custGeom>
            <a:avLst/>
            <a:gdLst/>
            <a:ahLst/>
            <a:rect l="l" t="t" r="r" b="b"/>
            <a:pathLst>
              <a:path w="2310" h="1679">
                <a:moveTo>
                  <a:pt x="45" y="915"/>
                </a:moveTo>
                <a:cubicBezTo>
                  <a:pt x="75" y="856"/>
                  <a:pt x="99" y="798"/>
                  <a:pt x="126" y="737"/>
                </a:cubicBezTo>
                <a:cubicBezTo>
                  <a:pt x="135" y="673"/>
                  <a:pt x="151" y="610"/>
                  <a:pt x="174" y="550"/>
                </a:cubicBezTo>
                <a:cubicBezTo>
                  <a:pt x="184" y="495"/>
                  <a:pt x="192" y="453"/>
                  <a:pt x="199" y="396"/>
                </a:cubicBezTo>
                <a:cubicBezTo>
                  <a:pt x="204" y="350"/>
                  <a:pt x="200" y="317"/>
                  <a:pt x="239" y="291"/>
                </a:cubicBezTo>
                <a:cubicBezTo>
                  <a:pt x="260" y="260"/>
                  <a:pt x="273" y="257"/>
                  <a:pt x="304" y="242"/>
                </a:cubicBezTo>
                <a:cubicBezTo>
                  <a:pt x="313" y="238"/>
                  <a:pt x="329" y="226"/>
                  <a:pt x="329" y="226"/>
                </a:cubicBezTo>
                <a:cubicBezTo>
                  <a:pt x="378" y="218"/>
                  <a:pt x="410" y="195"/>
                  <a:pt x="458" y="185"/>
                </a:cubicBezTo>
                <a:cubicBezTo>
                  <a:pt x="504" y="158"/>
                  <a:pt x="536" y="130"/>
                  <a:pt x="588" y="120"/>
                </a:cubicBezTo>
                <a:cubicBezTo>
                  <a:pt x="657" y="86"/>
                  <a:pt x="725" y="66"/>
                  <a:pt x="799" y="47"/>
                </a:cubicBezTo>
                <a:cubicBezTo>
                  <a:pt x="1022" y="55"/>
                  <a:pt x="969" y="0"/>
                  <a:pt x="1026" y="64"/>
                </a:cubicBezTo>
                <a:cubicBezTo>
                  <a:pt x="1040" y="72"/>
                  <a:pt x="1055" y="78"/>
                  <a:pt x="1067" y="88"/>
                </a:cubicBezTo>
                <a:cubicBezTo>
                  <a:pt x="1088" y="105"/>
                  <a:pt x="1124" y="145"/>
                  <a:pt x="1124" y="145"/>
                </a:cubicBezTo>
                <a:cubicBezTo>
                  <a:pt x="1134" y="174"/>
                  <a:pt x="1147" y="196"/>
                  <a:pt x="1156" y="226"/>
                </a:cubicBezTo>
                <a:cubicBezTo>
                  <a:pt x="1161" y="242"/>
                  <a:pt x="1172" y="274"/>
                  <a:pt x="1172" y="274"/>
                </a:cubicBezTo>
                <a:cubicBezTo>
                  <a:pt x="1189" y="380"/>
                  <a:pt x="1251" y="478"/>
                  <a:pt x="1310" y="566"/>
                </a:cubicBezTo>
                <a:cubicBezTo>
                  <a:pt x="1323" y="607"/>
                  <a:pt x="1368" y="633"/>
                  <a:pt x="1408" y="648"/>
                </a:cubicBezTo>
                <a:cubicBezTo>
                  <a:pt x="1424" y="654"/>
                  <a:pt x="1456" y="664"/>
                  <a:pt x="1456" y="664"/>
                </a:cubicBezTo>
                <a:cubicBezTo>
                  <a:pt x="1491" y="659"/>
                  <a:pt x="1528" y="659"/>
                  <a:pt x="1562" y="648"/>
                </a:cubicBezTo>
                <a:cubicBezTo>
                  <a:pt x="1598" y="636"/>
                  <a:pt x="1625" y="608"/>
                  <a:pt x="1659" y="591"/>
                </a:cubicBezTo>
                <a:cubicBezTo>
                  <a:pt x="1688" y="546"/>
                  <a:pt x="1735" y="540"/>
                  <a:pt x="1773" y="502"/>
                </a:cubicBezTo>
                <a:cubicBezTo>
                  <a:pt x="1799" y="475"/>
                  <a:pt x="1829" y="448"/>
                  <a:pt x="1854" y="420"/>
                </a:cubicBezTo>
                <a:cubicBezTo>
                  <a:pt x="1970" y="410"/>
                  <a:pt x="2012" y="405"/>
                  <a:pt x="2138" y="412"/>
                </a:cubicBezTo>
                <a:cubicBezTo>
                  <a:pt x="2180" y="457"/>
                  <a:pt x="2194" y="513"/>
                  <a:pt x="2243" y="550"/>
                </a:cubicBezTo>
                <a:cubicBezTo>
                  <a:pt x="2252" y="586"/>
                  <a:pt x="2264" y="593"/>
                  <a:pt x="2284" y="623"/>
                </a:cubicBezTo>
                <a:cubicBezTo>
                  <a:pt x="2296" y="660"/>
                  <a:pt x="2299" y="699"/>
                  <a:pt x="2308" y="737"/>
                </a:cubicBezTo>
                <a:cubicBezTo>
                  <a:pt x="2305" y="759"/>
                  <a:pt x="2310" y="783"/>
                  <a:pt x="2300" y="802"/>
                </a:cubicBezTo>
                <a:cubicBezTo>
                  <a:pt x="2291" y="818"/>
                  <a:pt x="2252" y="800"/>
                  <a:pt x="2235" y="834"/>
                </a:cubicBezTo>
                <a:cubicBezTo>
                  <a:pt x="2224" y="868"/>
                  <a:pt x="2219" y="899"/>
                  <a:pt x="2203" y="932"/>
                </a:cubicBezTo>
                <a:cubicBezTo>
                  <a:pt x="2197" y="995"/>
                  <a:pt x="2196" y="1081"/>
                  <a:pt x="2170" y="1142"/>
                </a:cubicBezTo>
                <a:cubicBezTo>
                  <a:pt x="2114" y="1275"/>
                  <a:pt x="1891" y="1297"/>
                  <a:pt x="1773" y="1297"/>
                </a:cubicBezTo>
                <a:cubicBezTo>
                  <a:pt x="1705" y="1286"/>
                  <a:pt x="1735" y="1280"/>
                  <a:pt x="1683" y="1264"/>
                </a:cubicBezTo>
                <a:cubicBezTo>
                  <a:pt x="1636" y="1233"/>
                  <a:pt x="1605" y="1209"/>
                  <a:pt x="1554" y="1183"/>
                </a:cubicBezTo>
                <a:cubicBezTo>
                  <a:pt x="1539" y="1175"/>
                  <a:pt x="1528" y="1159"/>
                  <a:pt x="1513" y="1151"/>
                </a:cubicBezTo>
                <a:cubicBezTo>
                  <a:pt x="1490" y="1139"/>
                  <a:pt x="1440" y="1126"/>
                  <a:pt x="1440" y="1126"/>
                </a:cubicBezTo>
                <a:cubicBezTo>
                  <a:pt x="1405" y="1129"/>
                  <a:pt x="1369" y="1127"/>
                  <a:pt x="1335" y="1134"/>
                </a:cubicBezTo>
                <a:cubicBezTo>
                  <a:pt x="1297" y="1141"/>
                  <a:pt x="1243" y="1215"/>
                  <a:pt x="1221" y="1248"/>
                </a:cubicBezTo>
                <a:cubicBezTo>
                  <a:pt x="1218" y="1259"/>
                  <a:pt x="1217" y="1270"/>
                  <a:pt x="1213" y="1280"/>
                </a:cubicBezTo>
                <a:cubicBezTo>
                  <a:pt x="1209" y="1289"/>
                  <a:pt x="1200" y="1296"/>
                  <a:pt x="1197" y="1305"/>
                </a:cubicBezTo>
                <a:cubicBezTo>
                  <a:pt x="1175" y="1366"/>
                  <a:pt x="1206" y="1328"/>
                  <a:pt x="1172" y="1362"/>
                </a:cubicBezTo>
                <a:cubicBezTo>
                  <a:pt x="1152" y="1421"/>
                  <a:pt x="1181" y="1348"/>
                  <a:pt x="1140" y="1410"/>
                </a:cubicBezTo>
                <a:cubicBezTo>
                  <a:pt x="1135" y="1417"/>
                  <a:pt x="1138" y="1429"/>
                  <a:pt x="1132" y="1435"/>
                </a:cubicBezTo>
                <a:cubicBezTo>
                  <a:pt x="1126" y="1441"/>
                  <a:pt x="1115" y="1440"/>
                  <a:pt x="1107" y="1443"/>
                </a:cubicBezTo>
                <a:cubicBezTo>
                  <a:pt x="1071" y="1479"/>
                  <a:pt x="1038" y="1517"/>
                  <a:pt x="1018" y="1564"/>
                </a:cubicBezTo>
                <a:cubicBezTo>
                  <a:pt x="1006" y="1592"/>
                  <a:pt x="1011" y="1615"/>
                  <a:pt x="978" y="1637"/>
                </a:cubicBezTo>
                <a:cubicBezTo>
                  <a:pt x="945" y="1660"/>
                  <a:pt x="910" y="1669"/>
                  <a:pt x="872" y="1678"/>
                </a:cubicBezTo>
                <a:cubicBezTo>
                  <a:pt x="813" y="1675"/>
                  <a:pt x="753" y="1679"/>
                  <a:pt x="694" y="1670"/>
                </a:cubicBezTo>
                <a:cubicBezTo>
                  <a:pt x="680" y="1668"/>
                  <a:pt x="672" y="1653"/>
                  <a:pt x="661" y="1645"/>
                </a:cubicBezTo>
                <a:cubicBezTo>
                  <a:pt x="627" y="1621"/>
                  <a:pt x="598" y="1596"/>
                  <a:pt x="564" y="1572"/>
                </a:cubicBezTo>
                <a:cubicBezTo>
                  <a:pt x="493" y="1465"/>
                  <a:pt x="507" y="1339"/>
                  <a:pt x="507" y="1216"/>
                </a:cubicBezTo>
                <a:cubicBezTo>
                  <a:pt x="464" y="1129"/>
                  <a:pt x="438" y="1039"/>
                  <a:pt x="337" y="1005"/>
                </a:cubicBezTo>
                <a:cubicBezTo>
                  <a:pt x="210" y="1012"/>
                  <a:pt x="167" y="1021"/>
                  <a:pt x="45" y="1013"/>
                </a:cubicBezTo>
                <a:cubicBezTo>
                  <a:pt x="39" y="1007"/>
                  <a:pt x="34" y="1001"/>
                  <a:pt x="28" y="996"/>
                </a:cubicBezTo>
                <a:cubicBezTo>
                  <a:pt x="21" y="990"/>
                  <a:pt x="6" y="989"/>
                  <a:pt x="4" y="980"/>
                </a:cubicBezTo>
                <a:cubicBezTo>
                  <a:pt x="0" y="961"/>
                  <a:pt x="2" y="939"/>
                  <a:pt x="12" y="923"/>
                </a:cubicBezTo>
                <a:cubicBezTo>
                  <a:pt x="18" y="913"/>
                  <a:pt x="45" y="915"/>
                  <a:pt x="45" y="915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9560" y="3886200"/>
            <a:ext cx="762120" cy="304920"/>
          </a:xfrm>
          <a:prstGeom prst="parallelogram">
            <a:avLst>
              <a:gd name="adj" fmla="val 6248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5880" y="4648320"/>
            <a:ext cx="45720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51160" y="4038480"/>
            <a:ext cx="6858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170080" y="35053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62728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7280" y="4800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84480" y="47242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398680" y="3352680"/>
            <a:ext cx="2743200" cy="1295280"/>
            <a:chOff x="2398680" y="3352680"/>
            <a:chExt cx="2743200" cy="1295280"/>
          </a:xfrm>
        </p:grpSpPr>
        <p:sp>
          <p:nvSpPr>
            <p:cNvPr id="155" name=""/>
            <p:cNvSpPr/>
            <p:nvPr/>
          </p:nvSpPr>
          <p:spPr>
            <a:xfrm flipH="1">
              <a:off x="2398680" y="3352680"/>
              <a:ext cx="30456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240" y="3352680"/>
              <a:ext cx="6098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98680" y="4267080"/>
              <a:ext cx="6858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084480" y="4114080"/>
              <a:ext cx="7617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56080" y="4495680"/>
              <a:ext cx="3808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46240" y="4114440"/>
              <a:ext cx="6098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836960" y="396180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532040" y="3809520"/>
              <a:ext cx="6098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627280" y="3276720"/>
            <a:ext cx="15228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61000" y="4572000"/>
            <a:ext cx="15228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4191120"/>
            <a:ext cx="15264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08160" y="4343400"/>
            <a:ext cx="15264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8160" y="5181480"/>
            <a:ext cx="152640" cy="15264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70280" y="4038480"/>
            <a:ext cx="152280" cy="15264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41680" y="4648320"/>
            <a:ext cx="15228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79760" y="4419720"/>
            <a:ext cx="15264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5560" y="3886200"/>
            <a:ext cx="15264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89120" y="4724280"/>
            <a:ext cx="152640" cy="15264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22000" y="204948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e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7160" y="2162160"/>
            <a:ext cx="152280" cy="152280"/>
          </a:xfrm>
          <a:prstGeom prst="rect">
            <a:avLst/>
          </a:prstGeom>
          <a:gradFill rotWithShape="0">
            <a:gsLst>
              <a:gs pos="0">
                <a:srgbClr val="e2e2e2"/>
              </a:gs>
              <a:gs pos="100000">
                <a:srgbClr val="686b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7160" y="2427120"/>
            <a:ext cx="1522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7160" y="2695680"/>
            <a:ext cx="152280" cy="152280"/>
          </a:xfrm>
          <a:prstGeom prst="ellipse">
            <a:avLst/>
          </a:prstGeom>
          <a:solidFill>
            <a:srgbClr val="27e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25600" y="257976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32353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28840" y="31194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/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7160" y="300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26320" y="28386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cal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8600" y="356868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07600" y="337032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rtes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3600" y="335448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32400" y="381168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36760" y="33526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5608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322360" y="3276720"/>
            <a:ext cx="2895480" cy="2057400"/>
            <a:chOff x="2322360" y="3276720"/>
            <a:chExt cx="2895480" cy="2057400"/>
          </a:xfrm>
        </p:grpSpPr>
        <p:sp>
          <p:nvSpPr>
            <p:cNvPr id="189" name=""/>
            <p:cNvSpPr/>
            <p:nvPr/>
          </p:nvSpPr>
          <p:spPr>
            <a:xfrm flipH="1">
              <a:off x="2398680" y="3353040"/>
              <a:ext cx="304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98680" y="426744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627280" y="44197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7280" y="48006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084480" y="47242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084480" y="4114440"/>
              <a:ext cx="761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56080" y="449604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46240" y="4114800"/>
              <a:ext cx="6098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36960" y="39621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27280" y="327672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0640" y="4572000"/>
              <a:ext cx="152640" cy="15264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22360" y="419112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08160" y="4343400"/>
              <a:ext cx="152280" cy="15264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08160" y="518184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70280" y="403884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41680" y="464832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79760" y="441972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65560" y="3886200"/>
              <a:ext cx="152280" cy="15264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89120" y="4724640"/>
              <a:ext cx="152280" cy="152280"/>
            </a:xfrm>
            <a:prstGeom prst="ellipse">
              <a:avLst/>
            </a:prstGeom>
            <a:solidFill>
              <a:srgbClr val="27e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versus reachabil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ability analysis is more useful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M has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abilit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primitive operations are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f reachabil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understanding of the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ments of the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 sel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pl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Reachability 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1/2</a:t>
            </a:r>
            <a:endParaRPr b="0" lang="en-US" sz="2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ree sample can be connected to a vertex in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al 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two vertices v’,v’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re exists a path between v’ and v’’ in the free space, then there exists a path between v’ and v’’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2970360" cy="2970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715000" y="2209680"/>
            <a:ext cx="2970360" cy="2970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5715000" y="2209680"/>
            <a:ext cx="2970360" cy="2970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715000" y="2209680"/>
            <a:ext cx="2970360" cy="297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5715000" y="2209680"/>
            <a:ext cx="2970360" cy="297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5715000" y="2209680"/>
            <a:ext cx="29703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Sampling strategy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1/3</a:t>
            </a:r>
            <a:endParaRPr b="0" lang="en-US" sz="2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1600200"/>
            <a:ext cx="281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uni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s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09480" y="3124080"/>
            <a:ext cx="7996320" cy="2362320"/>
            <a:chOff x="609480" y="3124080"/>
            <a:chExt cx="7996320" cy="236232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6248520" y="3124080"/>
              <a:ext cx="235728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429000" y="3124080"/>
              <a:ext cx="235584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609480" y="3124080"/>
              <a:ext cx="236232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Sampling strategy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2/3</a:t>
            </a:r>
            <a:endParaRPr b="0" lang="en-US" sz="2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pa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62120" y="3809880"/>
            <a:ext cx="3666960" cy="128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5105520" y="3809880"/>
            <a:ext cx="3666960" cy="1285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913840" y="4680000"/>
            <a:ext cx="20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# 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71640" y="4680000"/>
            <a:ext cx="20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5105520" y="5181480"/>
            <a:ext cx="2971800" cy="1285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1840" y="604044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1371600" y="5181480"/>
            <a:ext cx="3029040" cy="1285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486960" y="604188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Sampling strategy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838373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38373"/>
                </a:solidFill>
                <a:latin typeface="Arial Black"/>
              </a:rPr>
              <a:t>3/3</a:t>
            </a:r>
            <a:endParaRPr b="0" lang="en-US" sz="2000" spc="-1" strike="noStrike">
              <a:solidFill>
                <a:srgbClr val="838373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passage problem is caused by the inability to creat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: 25% scaling of work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8999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9:31:19Z</dcterms:created>
  <dc:creator>Roland</dc:creator>
  <dc:description>15 + 5 minutes talk</dc:description>
  <cp:keywords/>
  <dc:language>en-US</dc:language>
  <cp:lastModifiedBy>Roland</cp:lastModifiedBy>
  <dcterms:modified xsi:type="dcterms:W3CDTF">2005-04-15T13:48:01Z</dcterms:modified>
  <cp:revision>148</cp:revision>
  <dc:subject>Presentation @ ICRA 2005 conference</dc:subject>
  <dc:title>Reachability Analysis for Sampling Based Plann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0961033</vt:lpwstr>
  </property>
</Properties>
</file>